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498-8827-4E46-B57D-3A22FEA6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A35-E0CF-453E-81E4-0AF45BF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99A-871A-431D-8C2C-A4E4A346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8D4-6D65-4ECA-B1F4-49051432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4354-13CB-4203-9A30-98F43552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E1A-1074-456B-8D58-0926E004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975-C92C-4434-9A4C-47312A9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B76-CC79-4D56-A013-78182C48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D77B-6780-41C8-9CAD-C13B3800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D445-57DB-4752-BD5C-E6ADD788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8ECE-EC9B-40E2-85F3-B22B3A1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C0F-98E0-48D8-B733-2DF71CBC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7975-C4A4-4B44-B79F-A5D707D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A101-C3D8-4DAD-83EA-1B548EC8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DD71-9D97-4A4E-AF4B-E08C5D1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526-DD47-464B-A1EE-FCCCEF42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B67-137F-46E1-93BA-F98B7376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88F-81D2-4186-B4FD-9716E75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D6A-25E1-4C86-8CA0-DA34FB8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E19-8AAA-4CC5-B5D5-78334986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A10-104D-4976-A570-C3037010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5FF-3123-492A-A8CB-CA18BA6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47B-06DD-46A3-9DE7-857EBA55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637-CB19-4B7B-9BC3-3997DB8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0DD9-C6EE-4A82-AE3E-78922B94956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B8E2-2D83-40D5-9D94-EDFBB7D8F13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atasha Zacher 10-A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Over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Acculturation: the convergence and acceptance of one culture into an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Culture A          Culture 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xamples throughout history: Mongol invasion, Native American convergence, Spanish conquest in South America, many mo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27280" y="3429000"/>
            <a:ext cx="936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Why are we multicultur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Ethnocentrism-belief that one person’s culture is better than someone else’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British arriving in North America-took over the Native Americans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entury Gothic"/>
              </a:rPr>
              <a:t>Others immigrated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1916280"/>
            <a:ext cx="3156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Acculturation and Identit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orth American culture has adopted many different parts of other cultur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inority groups are being phased out. (Assimilatio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Mongol conquest in China-13 A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Globally awa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entury Gothic"/>
              </a:rPr>
              <a:t>Globalization and Acculturatio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ulticultural countries have cultures from around the worl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Assimilation and accommod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Brought in holidays and even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Food-Belgian-fried small potatoes when they couldn’t fish. Name orig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Media technolog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Idol series-brought to many other parts of the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entury Gothic"/>
              </a:rPr>
              <a:t>Western acculturation (McDonalds!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6948360" y="126828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23280" y="3933720"/>
            <a:ext cx="14684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Evolution of Christ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December 25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-Roman-rebirth of the Sun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Germany-evergreen tree-worship of the Yule g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Early middle ages-overshadowed by Epiphan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Late middle ages-King Richard II-huge fea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1800s-banned for controversial religious issu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20</a:t>
            </a:r>
            <a:r>
              <a:rPr b="0" lang="en-CA" sz="2400" spc="-1" strike="noStrike" baseline="30000">
                <a:solidFill>
                  <a:srgbClr val="2f1311"/>
                </a:solidFill>
                <a:latin typeface="Century Gothic"/>
              </a:rPr>
              <a:t>th</a:t>
            </a: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 century-after WWI. Holiday of peace and commerciali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Century Gothic"/>
              </a:rPr>
              <a:t>Santa Claus-from the early Dutch Sint Klaas, Christian saint who gave gold to those in need, Greek Nicholas of Myra, and St. Nicholas of Bari (location of his remains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Christmas!! </a:t>
            </a:r>
            <a:r>
              <a:rPr b="0" lang="en-US" sz="40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24360" cy="2733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3240000" cy="276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208584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3168720" cy="253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3095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entury Gothic"/>
              </a:rPr>
              <a:t>Inuktitut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Verbal language of the Inu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Never written dow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Some parts are written in Englis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Developed by missionari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entury Gothic"/>
              </a:rPr>
              <a:t>English parts-describe global issu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7d47d"/>
                </a:solidFill>
                <a:latin typeface="Century Gothic"/>
              </a:rPr>
              <a:t>Manga in Canada?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Hugely popul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Japanese anime figu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YTV-Naruto, Inyuyasha, mo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nime Festival at the U of C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f1311"/>
                </a:solidFill>
                <a:latin typeface="Century Gothic"/>
              </a:rPr>
              <a:t>All from globalization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356000" y="4581360"/>
            <a:ext cx="2880000" cy="2048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042920" y="4540320"/>
            <a:ext cx="2233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34:23Z</dcterms:created>
  <dc:creator>Natasha Ava</dc:creator>
  <dc:description/>
  <dc:language>en-US</dc:language>
  <cp:lastModifiedBy>Natasha Ava</cp:lastModifiedBy>
  <dcterms:modified xsi:type="dcterms:W3CDTF">2007-10-14T01:10:54Z</dcterms:modified>
  <cp:revision>11</cp:revision>
  <dc:subject/>
  <dc:title>Acculturation</dc:title>
</cp:coreProperties>
</file>