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511-DC93-468C-A637-0DD1EA0A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D08-C6C2-4099-8E5A-AAEC266F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5D7-6C71-44B5-8DC6-6D2C1BF2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8A5-DA75-4D42-B9A0-4B5B611D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872E-2EBE-413A-AC7F-594B8EAC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3A2F-E969-4D38-929D-C110869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2547-9269-4DDE-AD51-F34A478D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F8BD-1AAA-46D2-825D-0A791AED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FABE-879E-44DA-8477-4A863292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479C-CC26-45C8-80AE-63F4B751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B478-23B2-4E19-A91C-D1B9FD85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503-6B19-47B1-9B1A-7C7180E4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0D56-4B10-4F4E-BFC1-B9A0EEC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5FF7-8ADC-4B23-B829-661AA7F1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450-39F8-42C5-ADF0-1F5620D1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FE29-BDB6-4A6E-A91C-CDFEA292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FBD8-980B-4E77-B440-94CBFD89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8F8-183D-41CD-92B2-5006F422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23B-2E46-46F8-8341-6F1AFDA1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F6E-9C40-49AC-9954-62BDBDB7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96F-D442-4014-BAA6-FD4FE925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E1A-70D8-43D6-96F2-3118384F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F28-1D4B-4B52-88BF-250C5901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0A3-FDF0-4120-BEEC-1D64654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62D6-4E71-448D-A12E-B224D7F9F18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1B12-E2C8-4CFE-A250-04A16017140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atasha Zacher 10-A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Over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Acculturation: the convergence and acceptance of one culture into ano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Culture A          Culture B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xamples throughout history: Mongol invasion, Native American convergence, Spanish conquest in South America, many mo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3429000"/>
            <a:ext cx="936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Why are we multicultur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Ethnocentrism-belief that one person’s culture is better than someone else’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British arriving in North America-took over the Native American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Others immigrated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11640" y="1916280"/>
            <a:ext cx="3156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 and Ident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orth American culture has adopted many different parts of other cultur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inority groups are being phased out. (Assimilatio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ongol conquest in China-13 A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Globally awa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Century Gothic"/>
              </a:rPr>
              <a:t>Globalization and Accultur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ulticultural countries have cultures from around the worl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Assimilation and accommod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Brought in holidays and even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Food-Belgian-fried small potatoes when they couldn’t fish. Name origi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edia technolog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Idol series-brought to many other parts of the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Western acculturation (McDonalds!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6948360" y="126828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523280" y="3933720"/>
            <a:ext cx="14684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Evolution of Christm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December 25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-Roman-rebirth of the Sun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Germany-evergreen tree-worship of the Yule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Early middle ages-overshadowed by Epiphan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Late middle ages-King Richard II-huge fea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1800s-banned for controversial religious issu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20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 century-after WWI. Holiday of peace and commerciali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Santa Claus-from the early Dutch Sint Klaas, Christian saint who gave gold to those in need, Greek Nicholas of Myra, and St. Nicholas of Bari (location of his remains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Christmas!!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24360" cy="2733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3240000" cy="2765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2085840" cy="2781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3168720" cy="2530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635280" y="4149720"/>
            <a:ext cx="3095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Inuktitut Langu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Verbal language of the Inu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ever written dow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Some parts are written in Englis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Developed by missionari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nglish parts-describe global issu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Century Gothic"/>
              </a:rPr>
              <a:t>Manga in Canada?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Hugely popul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Japanese anime figu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YTV-Naruto, Inyuyasha, mo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nime Festival at the U of C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ll from globalization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356000" y="4581360"/>
            <a:ext cx="2880000" cy="2048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042920" y="4540320"/>
            <a:ext cx="2233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34:23Z</dcterms:created>
  <dc:creator>Natasha Ava</dc:creator>
  <dc:description/>
  <dc:language>en-US</dc:language>
  <cp:lastModifiedBy>Natasha Ava</cp:lastModifiedBy>
  <dcterms:modified xsi:type="dcterms:W3CDTF">2007-10-14T01:10:54Z</dcterms:modified>
  <cp:revision>11</cp:revision>
  <dc:subject/>
  <dc:title>Acculturation</dc:title>
</cp:coreProperties>
</file>