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B076-E3DB-4D0C-8047-937026D91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77C0-5B11-406E-B149-1FA2A224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59CE-1FA2-425D-9381-1FBDFEC30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5C5F-3D2E-4F17-9317-53EA1A831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D844-A938-4D40-900B-1F08188F1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F4FE-3E8B-4F37-9588-A6C9A482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41245-05EB-4043-AB25-5C74C1A8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BFD1-47B4-4938-92B2-250C75A5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C928-7944-4BA7-ACBC-037FF05E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C096-83AC-4260-B576-65915F9C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3950-419C-4ADD-BA89-47DA3541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C19F-AF91-43D0-B3E0-472B0183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9DD0-6558-4565-9DAA-E35693D4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F5233-C017-4A89-ACFA-104D2102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9902-860F-4D83-B137-ABF8CB9C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B650-2FD9-46BB-AD64-029615EC8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3469-CC22-40C2-9D74-095B3ACB2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8BF7-9EAF-417D-9390-4E619024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231E-5427-4B9A-8C56-487318F3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82F6-704D-4843-9141-E9B70655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9C47-3747-4BB2-B216-F70551FB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537B-CBF7-43D0-8F69-1CC1BF03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6BAF-7830-425B-A5DF-302E5F40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09DC-070B-4296-8F4A-0EAF633F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B6B9-A082-47C0-9165-C16FDF6332FA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EA64-6BC1-4069-BB50-68FE7A0F13DB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Century Gothic"/>
              </a:rPr>
              <a:t>Acculturat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Natasha Zacher 10-AP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Century Gothic"/>
              </a:rPr>
              <a:t>Overview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Acculturation: the convergence and acceptance of one culture into another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Culture A          Culture B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Examples throughout history: Mongol invasion, Native American convergence, Spanish conquest in South America, many mor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627280" y="3429000"/>
            <a:ext cx="93672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Century Gothic"/>
              </a:rPr>
              <a:t>Why are we multicultural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1311"/>
                </a:solidFill>
                <a:latin typeface="Century Gothic"/>
              </a:rPr>
              <a:t>Ethnocentrism-belief that one person’s culture is better than someone else’s.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1311"/>
                </a:solidFill>
                <a:latin typeface="Century Gothic"/>
              </a:rPr>
              <a:t>British arriving in North America-took over the Native Americans.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1311"/>
                </a:solidFill>
                <a:latin typeface="Century Gothic"/>
              </a:rPr>
              <a:t>Others immigrated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4211640" y="1916280"/>
            <a:ext cx="31561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Century Gothic"/>
              </a:rPr>
              <a:t>Acculturation and Identity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North American culture has adopted many different parts of other culture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Minority groups are being phased out. (Assimilation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Mongol conquest in China-13 A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Globally awar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Century Gothic"/>
              </a:rPr>
              <a:t>Globalization and Acculturation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Century Gothic"/>
              </a:rPr>
              <a:t>Multicultural countries have cultures from around the world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Century Gothic"/>
              </a:rPr>
              <a:t>Assimilation and accommodatio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Century Gothic"/>
              </a:rPr>
              <a:t>Brought in holidays and event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Century Gothic"/>
              </a:rPr>
              <a:t>Food-Belgian-fried small potatoes when they couldn’t fish. Name origi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Century Gothic"/>
              </a:rPr>
              <a:t>Media technolog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Century Gothic"/>
              </a:rPr>
              <a:t>Idol series-brought to many other parts of the worl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Century Gothic"/>
              </a:rPr>
              <a:t>Western acculturation (McDonalds!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8"/>
          <a:stretch/>
        </p:blipFill>
        <p:spPr>
          <a:xfrm>
            <a:off x="6948360" y="1268280"/>
            <a:ext cx="2016360" cy="14796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9"/>
          <a:stretch/>
        </p:blipFill>
        <p:spPr>
          <a:xfrm>
            <a:off x="7523280" y="3933720"/>
            <a:ext cx="1468440" cy="20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Century Gothic"/>
              </a:rPr>
              <a:t>Evolution of Christma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Century Gothic"/>
              </a:rPr>
              <a:t>December 25</a:t>
            </a:r>
            <a:r>
              <a:rPr b="0" lang="en-CA" sz="2400" spc="-1" strike="noStrike" baseline="30000">
                <a:solidFill>
                  <a:srgbClr val="2f1311"/>
                </a:solidFill>
                <a:latin typeface="Century Gothic"/>
              </a:rPr>
              <a:t>th</a:t>
            </a:r>
            <a:r>
              <a:rPr b="0" lang="en-CA" sz="2400" spc="-1" strike="noStrike">
                <a:solidFill>
                  <a:srgbClr val="2f1311"/>
                </a:solidFill>
                <a:latin typeface="Century Gothic"/>
              </a:rPr>
              <a:t>-Roman-rebirth of the Sun god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Century Gothic"/>
              </a:rPr>
              <a:t>Germany-evergreen tree-worship of the Yule god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Century Gothic"/>
              </a:rPr>
              <a:t>Early middle ages-overshadowed by Epiphany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Century Gothic"/>
              </a:rPr>
              <a:t>Late middle ages-King Richard II-huge feas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Century Gothic"/>
              </a:rPr>
              <a:t>1800s-banned for controversial religious issue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Century Gothic"/>
              </a:rPr>
              <a:t>20</a:t>
            </a:r>
            <a:r>
              <a:rPr b="0" lang="en-CA" sz="2400" spc="-1" strike="noStrike" baseline="30000">
                <a:solidFill>
                  <a:srgbClr val="2f1311"/>
                </a:solidFill>
                <a:latin typeface="Century Gothic"/>
              </a:rPr>
              <a:t>th</a:t>
            </a:r>
            <a:r>
              <a:rPr b="0" lang="en-CA" sz="2400" spc="-1" strike="noStrike">
                <a:solidFill>
                  <a:srgbClr val="2f1311"/>
                </a:solidFill>
                <a:latin typeface="Century Gothic"/>
              </a:rPr>
              <a:t> century-after WWI. Holiday of peace and commercialism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Century Gothic"/>
              </a:rPr>
              <a:t>Santa Claus-from the early Dutch Sint Klaas, Christian saint who gave gold to those in need, Greek Nicholas of Myra, and St. Nicholas of Bari (location of his remains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Century Gothic"/>
              </a:rPr>
              <a:t>Christmas!! </a:t>
            </a:r>
            <a:r>
              <a:rPr b="0" lang="en-US" sz="4000" spc="-1" strike="noStrike">
                <a:solidFill>
                  <a:srgbClr val="f7d47d"/>
                </a:solidFill>
                <a:latin typeface="Wingdings"/>
                <a:ea typeface="Wingdings"/>
              </a:rPr>
              <a:t>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3024360" cy="27338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3419640" y="1268280"/>
            <a:ext cx="3240000" cy="27655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6804000" y="2349360"/>
            <a:ext cx="2085840" cy="2781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395280" y="4076640"/>
            <a:ext cx="3168720" cy="25304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3635280" y="4149720"/>
            <a:ext cx="309564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Century Gothic"/>
              </a:rPr>
              <a:t>Inuktitut Languag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Verbal language of the Inuit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Never written down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Some parts are written in English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Developed by missionarie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English parts-describe global issue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7d47d"/>
                </a:solidFill>
                <a:latin typeface="Century Gothic"/>
              </a:rPr>
              <a:t>Manga in Canada?!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f1311"/>
                </a:solidFill>
                <a:latin typeface="Century Gothic"/>
              </a:rPr>
              <a:t>Hugely popula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f1311"/>
                </a:solidFill>
                <a:latin typeface="Century Gothic"/>
              </a:rPr>
              <a:t>Japanese anime figur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f1311"/>
                </a:solidFill>
                <a:latin typeface="Century Gothic"/>
              </a:rPr>
              <a:t>YTV-Naruto, Inyuyasha, mor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f1311"/>
                </a:solidFill>
                <a:latin typeface="Century Gothic"/>
              </a:rPr>
              <a:t>Anime Festival at the U of C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f1311"/>
                </a:solidFill>
                <a:latin typeface="Century Gothic"/>
              </a:rPr>
              <a:t>All from globalization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>
            <a:off x="4356000" y="4581360"/>
            <a:ext cx="2880000" cy="20480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7"/>
          <a:stretch/>
        </p:blipFill>
        <p:spPr>
          <a:xfrm>
            <a:off x="1042920" y="4540320"/>
            <a:ext cx="223380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02:34:23Z</dcterms:created>
  <dc:creator>Natasha Ava</dc:creator>
  <dc:description/>
  <dc:language>en-US</dc:language>
  <cp:lastModifiedBy>Natasha Ava</cp:lastModifiedBy>
  <dcterms:modified xsi:type="dcterms:W3CDTF">2007-10-14T01:10:54Z</dcterms:modified>
  <cp:revision>11</cp:revision>
  <dc:subject/>
  <dc:title>Acculturation</dc:title>
</cp:coreProperties>
</file>