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E84-B390-490B-B1B1-2C0CADB9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3BE-3139-4A0C-B193-C714E8F2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BAD-6841-4859-AFEF-4DDC2B85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913-5A32-4E4F-A2E8-2D9A1A08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305B-B07A-42E5-B2FD-5130A432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6731-CEDD-4F32-A9E3-8D8543BB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9270-547E-4BB8-8E39-8EE37718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E0FB-BC27-45B4-8FF1-34333ACB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C989-9F48-4C07-88E3-559ED02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B25A-EF64-43F5-B1EE-78A2BB2A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2C62-DE5A-4729-A5BA-89972B52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B43-550E-4AFB-9B28-4D9FB18B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051B-F70A-4223-942A-0010535C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3D3E-37EB-4885-89D3-9877373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7FA0-036B-47F9-B4DA-EF11239C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BA52-9783-4E99-97E8-38DC868A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91AA-B59D-4C6E-9F8B-845994E1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AA4-4CEB-4387-A721-6F8692E5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FF7-634F-40FD-93F5-955710BA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BBC-65FD-4289-BC80-6E768E90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25D-AD50-4F65-AEC5-2A8C27B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F1D-668F-4CA3-A1E4-49F8954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B61-864D-4DC1-A812-5E0F398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85B-580E-47D5-BB55-9A6DF27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7483-78C5-4871-B61D-A0C57C5C32E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E20E-53A7-4607-B0A5-26496A8ECB4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atasha Zacher 10-A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Over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Acculturation: the convergence and acceptance of one culture into ano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Culture A          Culture B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xamples throughout history: Mongol invasion, Native American convergence, Spanish conquest in South America, many mo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3429000"/>
            <a:ext cx="9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Why are we multicultur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Ethnocentrism-belief that one person’s culture is better than someone else’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British arriving in North America-took over the Native American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Others immigrated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1916280"/>
            <a:ext cx="3156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 and Ident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orth American culture has adopted many different parts of other cultur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inority groups are being phased out. (Assimilatio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ongol conquest in China-13 A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Globally awa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Century Gothic"/>
              </a:rPr>
              <a:t>Globalization and Accultur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ulticultural countries have cultures from around the worl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Assimilation and accommod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Brought in holidays and even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Food-Belgian-fried small potatoes when they couldn’t fish. Name orig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edia technolog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Idol series-brought to many other parts of the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Western acculturation (McDonalds!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6948360" y="126828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523280" y="3933720"/>
            <a:ext cx="14684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Evolution of Christm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December 25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-Roman-rebirth of the Sun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Germany-evergreen tree-worship of the Yule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Early middle ages-overshadowed by Epiphan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Late middle ages-King Richard II-huge fea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1800s-banned for controversial religious issu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20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 century-after WWI. Holiday of peace and commerciali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Santa Claus-from the early Dutch Sint Klaas, Christian saint who gave gold to those in need, Greek Nicholas of Myra, and St. Nicholas of Bari (location of his remains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Christmas!!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24360" cy="2733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3240000" cy="2765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208584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168720" cy="2530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635280" y="4149720"/>
            <a:ext cx="3095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Inuktitut Langu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Verbal language of the Inu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ever written dow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Some parts are written in Englis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Developed by missionari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nglish parts-describe global issu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Century Gothic"/>
              </a:rPr>
              <a:t>Manga in Canada?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Hugely popul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Japanese anime figu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YTV-Naruto, Inyuyasha, mo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nime Festival at the U of C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ll from globalization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356000" y="4581360"/>
            <a:ext cx="2880000" cy="2048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042920" y="4540320"/>
            <a:ext cx="2233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34:23Z</dcterms:created>
  <dc:creator>Natasha Ava</dc:creator>
  <dc:description/>
  <dc:language>en-US</dc:language>
  <cp:lastModifiedBy>Natasha Ava</cp:lastModifiedBy>
  <dcterms:modified xsi:type="dcterms:W3CDTF">2007-10-14T01:10:54Z</dcterms:modified>
  <cp:revision>11</cp:revision>
  <dc:subject/>
  <dc:title>Acculturation</dc:title>
</cp:coreProperties>
</file>