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50F9-E6D2-497B-9952-A9841341A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31F5-D915-45ED-B046-EEB03C8D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ADF1-5A13-4AF8-BA66-D9B4632FA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BEC7-2AD6-45CF-9AB5-20C930B79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0A55-688F-4498-9428-30816D82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010D-6A80-4992-A1B7-64BEEEA4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B80B-3BEF-4405-893E-BB61CB4A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788E-7E52-4E67-AC68-A31F0059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438F-F095-4E6B-9164-9FF5A708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DD3F-4716-4212-9FD7-B946F649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C484-EEC7-45E0-B7AA-7675F116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E01A-DBD1-4F36-8F23-A7D38653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F603-DA21-4FA4-A22E-C14EBB2C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DD28-147F-4B75-A751-AA7C463E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4F84-F653-4B26-BEED-9BCEFDB0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A743-302D-4956-BD8D-75F45E0DA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A3A4-462D-4559-8944-CC35D7FCE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3CB5-A73E-45A6-ADA2-DB01552E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4EC0-2383-4D7E-9E5B-348AF3B1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D2AD-923D-4A9F-90D6-2A9F430F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A178-B603-44D0-AFC5-55D49FBF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1217-BA33-44D5-8714-F543ABA5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F74B-3372-459B-98C8-7C903FD2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B4C0-ADDA-4868-A980-AD3BA5B5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8018-7305-4C81-A573-BE064327903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9B67-7369-4FA3-ACC9-4DF0C78EC74F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Century Gothic"/>
              </a:rPr>
              <a:t>Accultura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Natasha Zacher 10-AP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Century Gothic"/>
              </a:rPr>
              <a:t>Overview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Acculturation: the convergence and acceptance of one culture into another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Culture A          Culture B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Examples throughout history: Mongol invasion, Native American convergence, Spanish conquest in South America, many mor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27280" y="3429000"/>
            <a:ext cx="93672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Century Gothic"/>
              </a:rPr>
              <a:t>Why are we multicultural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311"/>
                </a:solidFill>
                <a:latin typeface="Century Gothic"/>
              </a:rPr>
              <a:t>Ethnocentrism-belief that one person’s culture is better than someone else’s.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311"/>
                </a:solidFill>
                <a:latin typeface="Century Gothic"/>
              </a:rPr>
              <a:t>British arriving in North America-took over the Native Americans.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311"/>
                </a:solidFill>
                <a:latin typeface="Century Gothic"/>
              </a:rPr>
              <a:t>Others immigrated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4211640" y="1916280"/>
            <a:ext cx="31561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Century Gothic"/>
              </a:rPr>
              <a:t>Acculturation and Identit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North American culture has adopted many different parts of other culture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Minority groups are being phased out. (Assimilation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Mongol conquest in China-13 A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Globally awar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Century Gothic"/>
              </a:rPr>
              <a:t>Globalization and Acculturation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entury Gothic"/>
              </a:rPr>
              <a:t>Multicultural countries have cultures from around the world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entury Gothic"/>
              </a:rPr>
              <a:t>Assimilation and accommodatio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entury Gothic"/>
              </a:rPr>
              <a:t>Brought in holidays and event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entury Gothic"/>
              </a:rPr>
              <a:t>Food-Belgian-fried small potatoes when they couldn’t fish. Name origi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entury Gothic"/>
              </a:rPr>
              <a:t>Media technolog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entury Gothic"/>
              </a:rPr>
              <a:t>Idol series-brought to many other parts of the worl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entury Gothic"/>
              </a:rPr>
              <a:t>Western acculturation (McDonalds!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6948360" y="1268280"/>
            <a:ext cx="2016360" cy="14796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9"/>
          <a:stretch/>
        </p:blipFill>
        <p:spPr>
          <a:xfrm>
            <a:off x="7523280" y="3933720"/>
            <a:ext cx="146844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Century Gothic"/>
              </a:rPr>
              <a:t>Evolution of Christma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December 25</a:t>
            </a:r>
            <a:r>
              <a:rPr b="0" lang="en-CA" sz="2400" spc="-1" strike="noStrike" baseline="30000">
                <a:solidFill>
                  <a:srgbClr val="2f1311"/>
                </a:solidFill>
                <a:latin typeface="Century Gothic"/>
              </a:rPr>
              <a:t>th</a:t>
            </a: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-Roman-rebirth of the Sun god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Germany-evergreen tree-worship of the Yule god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Early middle ages-overshadowed by Epiphan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Late middle ages-King Richard II-huge feas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1800s-banned for controversial religious issue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20</a:t>
            </a:r>
            <a:r>
              <a:rPr b="0" lang="en-CA" sz="2400" spc="-1" strike="noStrike" baseline="30000">
                <a:solidFill>
                  <a:srgbClr val="2f1311"/>
                </a:solidFill>
                <a:latin typeface="Century Gothic"/>
              </a:rPr>
              <a:t>th</a:t>
            </a: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 century-after WWI. Holiday of peace and commercialism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Santa Claus-from the early Dutch Sint Klaas, Christian saint who gave gold to those in need, Greek Nicholas of Myra, and St. Nicholas of Bari (location of his remains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Century Gothic"/>
              </a:rPr>
              <a:t>Christmas!! </a:t>
            </a:r>
            <a:r>
              <a:rPr b="0" lang="en-US" sz="4000" spc="-1" strike="noStrike">
                <a:solidFill>
                  <a:srgbClr val="f7d47d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3024360" cy="27338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419640" y="1268280"/>
            <a:ext cx="3240000" cy="27655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6804000" y="2349360"/>
            <a:ext cx="2085840" cy="2781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95280" y="4076640"/>
            <a:ext cx="3168720" cy="2530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3635280" y="4149720"/>
            <a:ext cx="309564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Century Gothic"/>
              </a:rPr>
              <a:t>Inuktitut Languag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Verbal language of the Inuit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Never written down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Some parts are written in English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Developed by missionarie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English parts-describe global issue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7d47d"/>
                </a:solidFill>
                <a:latin typeface="Century Gothic"/>
              </a:rPr>
              <a:t>Manga in Canada?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f1311"/>
                </a:solidFill>
                <a:latin typeface="Century Gothic"/>
              </a:rPr>
              <a:t>Hugely popula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f1311"/>
                </a:solidFill>
                <a:latin typeface="Century Gothic"/>
              </a:rPr>
              <a:t>Japanese anime figur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f1311"/>
                </a:solidFill>
                <a:latin typeface="Century Gothic"/>
              </a:rPr>
              <a:t>YTV-Naruto, Inyuyasha, mor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f1311"/>
                </a:solidFill>
                <a:latin typeface="Century Gothic"/>
              </a:rPr>
              <a:t>Anime Festival at the U of C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f1311"/>
                </a:solidFill>
                <a:latin typeface="Century Gothic"/>
              </a:rPr>
              <a:t>All from globalization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4356000" y="4581360"/>
            <a:ext cx="2880000" cy="20480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7"/>
          <a:stretch/>
        </p:blipFill>
        <p:spPr>
          <a:xfrm>
            <a:off x="1042920" y="4540320"/>
            <a:ext cx="223380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02:34:23Z</dcterms:created>
  <dc:creator>Natasha Ava</dc:creator>
  <dc:description/>
  <dc:language>en-US</dc:language>
  <cp:lastModifiedBy>Natasha Ava</cp:lastModifiedBy>
  <dcterms:modified xsi:type="dcterms:W3CDTF">2007-10-14T01:10:54Z</dcterms:modified>
  <cp:revision>11</cp:revision>
  <dc:subject/>
  <dc:title>Acculturation</dc:title>
</cp:coreProperties>
</file>