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5D6-0870-4E63-A264-0C4B8C22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428-333F-4AC2-8A16-8DB4A298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B39-290A-472A-AEC1-E34E3367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429-2BA2-4991-9C38-04265BE7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875E-DB00-4E4D-B65E-7ADB2152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0BF0-A4D8-4F52-8F36-BFEA690E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2384-A0E7-4CF1-B099-908D2AD9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4105-42F7-493B-9AC4-7FBC2EC3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7888-0567-4F1A-A89E-B16D5E59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F92F-A6EE-40DD-86AD-AC40A65F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966E-7345-4FD3-AEFF-9219788B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56C-701C-45DE-82A6-1CE31605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9710-254E-4ADB-B768-12DEACAC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43F7-DF5A-4D92-B2E3-3B098E2D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5F59-4D63-4167-9C4B-33599F2A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649C-7288-4F38-973D-25382E4E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AB00-89C2-4D1C-8E01-A5F38C4A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639-0D72-41E6-860F-F2A414AF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E233-5F93-48FF-ABBE-7B6814D9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1B3-14A7-4065-837E-522A6F07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247-CFBF-402B-B2C6-73C455CD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47D-C7BA-4905-A386-1631514F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BC1-408F-4146-B7E4-BF1DF2D6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5E9-D72F-4422-8D12-350B1AEF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0BD2-D42D-4645-B877-E32829FB0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1A91-4A3B-43A5-9622-53895413B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shapes our identit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nielle Broadfo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atasha Z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actors of our ident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amily and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roups/Clu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eliefs a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bb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2763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eritage-the origins of our ances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ere we’ve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-Calgary, Re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286000" cy="1378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160720" cy="16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867280" y="4343400"/>
            <a:ext cx="2765520" cy="2203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4920" y="440064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429000" y="4167360"/>
            <a:ext cx="2209680" cy="2690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715000" y="2590920"/>
            <a:ext cx="2971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entury Gothic"/>
              </a:rPr>
              <a:t>Background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amily and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y provide us with an intricate support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elp form our beliefs and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roups/Clu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nce Spectrum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lgary Aquab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usic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5:04:46Z</dcterms:created>
  <dc:creator>Webber Academy Webber Academy</dc:creator>
  <dc:description/>
  <dc:language>en-US</dc:language>
  <cp:lastModifiedBy>Natasha Ava</cp:lastModifiedBy>
  <dcterms:modified xsi:type="dcterms:W3CDTF">2007-09-23T20:34:20Z</dcterms:modified>
  <cp:revision>3</cp:revision>
  <dc:subject/>
  <dc:title>What shapes our identities?</dc:title>
</cp:coreProperties>
</file>