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F5A-FCA1-4CFD-BDC9-8E188FB0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F8B-B385-4193-B9D6-7486F8A7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65B-AED3-4566-86F0-C98D769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4EA-FF0A-4719-A17E-E841EF1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14A2-7903-47E2-B156-3CFC43C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8B1-2068-4D41-9119-CF52B58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3A5B-5CC7-41F0-877D-C204DFDA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419-E2E2-4693-AA53-2D2A1D3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898-FD22-45D7-9978-AF9AF8E6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E4E-A509-4811-AB79-D31A58E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4D3-B3D8-47F3-B780-69A805B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FCB-3743-4D08-A18F-AD2E2B6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A643-248D-48BF-BB2D-F353FC6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C6AD-E019-4EE2-84FA-F9D351F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E37D-4A3D-4EA4-AE38-F2C164C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CBA5-8BEE-41BE-BF95-EE80FAF7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62F-0464-4DA9-9046-BFFB859F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DF2-8269-4ED4-BC18-9EAFB01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253-59B5-4991-A549-A3E37952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29F-BFB2-4A53-873B-353EEA5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087-E82F-41B1-843D-9AA68245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1EA-8E37-4CFC-AA87-137EEF1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A56-A008-4D25-9D03-D2DB52F5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BEE-3DFB-45FA-9C68-A6C4774E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F1B-37CD-4D55-AF9D-DD2E577E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B37D-473D-4DFB-B636-F170AF50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shapes our ident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ielle Broadf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asha Z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ctors of our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s/Clu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lief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276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ritage-the origins of our ances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we’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Calgary, Re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37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2765520" cy="220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0064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429000" y="4167360"/>
            <a:ext cx="2209680" cy="269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715000" y="2590920"/>
            <a:ext cx="2971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entury Gothic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provide us with an intricate support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form our beliefs an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oups/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ce Spectrum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lgary Aquab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04:46Z</dcterms:created>
  <dc:creator>Webber Academy Webber Academy</dc:creator>
  <dc:description/>
  <dc:language>en-US</dc:language>
  <cp:lastModifiedBy>Natasha Ava</cp:lastModifiedBy>
  <dcterms:modified xsi:type="dcterms:W3CDTF">2007-09-23T20:34:20Z</dcterms:modified>
  <cp:revision>3</cp:revision>
  <dc:subject/>
  <dc:title>What shapes our identities?</dc:title>
</cp:coreProperties>
</file>