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65C3-2363-4B58-B4C1-5C83B137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3CD-072E-420C-ACB1-D80D9FE6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88F6-B933-42D8-800A-39E36F12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664-76FB-4921-B6F1-4A34A712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80C9-DE66-49B6-A5B7-349E73D2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15F6-4109-430B-97E2-18C23391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842B-EDCE-4962-8B3D-DAAB9B55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06BC-99D2-4837-AB77-5D3EFD90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6E96-2FD9-4AEA-A682-69F7DECD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1FE6-49B4-4202-A80F-8EEC0D66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455D-F98C-4F89-AB17-3D81BA9C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AC9-3090-4360-83AE-0AEDE107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6068-0F19-41F1-99C3-541A3861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F261-C543-42A4-B423-97519309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8005-EAF5-49F2-BE6B-373BB37A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5122-1C03-48B5-9666-CD13F10C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06EA-5775-4FD3-809F-0BBB691A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8DF-92F1-45ED-B39F-B03827BF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0F3A-C41B-44A7-92A6-B7498E50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99D-726A-44BE-8915-39D94A6D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141-AC65-4D85-A9B2-40A4FD58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5F29-2504-41A7-8A47-44E9E1BE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FB7-4719-4A1E-AAEC-AE4C9B0B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8CAB-4041-4732-86E2-FDEAE04F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C4B7-FCB4-49E0-AAFF-ECB533DF0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CAF8-24EA-448C-ABC8-23CBA4312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shapes our identit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anielle Broadfo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atasha Z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actors of our ident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amily and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roups/Clu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eliefs an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bb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32763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eritage-the origins of our ances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ere we’ve 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-Calgary, Re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286000" cy="1378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160720" cy="161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867280" y="4343400"/>
            <a:ext cx="2765520" cy="2203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04920" y="440064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3429000" y="4167360"/>
            <a:ext cx="2209680" cy="2690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715000" y="2590920"/>
            <a:ext cx="2971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entury Gothic"/>
              </a:rPr>
              <a:t>Background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amily and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y provide us with an intricate support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elp form our beliefs and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Groups/Clu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ance Spectrum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algary Aquab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usic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5:04:46Z</dcterms:created>
  <dc:creator>Webber Academy Webber Academy</dc:creator>
  <dc:description/>
  <dc:language>en-US</dc:language>
  <cp:lastModifiedBy>Natasha Ava</cp:lastModifiedBy>
  <dcterms:modified xsi:type="dcterms:W3CDTF">2007-09-23T20:34:20Z</dcterms:modified>
  <cp:revision>3</cp:revision>
  <dc:subject/>
  <dc:title>What shapes our identities?</dc:title>
</cp:coreProperties>
</file>