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91D-F36C-400D-98BF-E2927AF5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D78-2C31-4667-B70A-1902577A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26F-7F8A-44E2-BF19-4F8858A8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4A3-A87C-46F8-AD88-B871D017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5FBB-5EA3-42DA-BB86-6D17D811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14BE-31D0-4933-8B6F-0C821923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9D58-93AC-43F4-AC23-FAA8D594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839C-AAA7-47D3-B92A-2E13DE74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F099-EAFA-45E9-9091-F4D8EC5B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7DD4-0BC3-4EC7-B39A-08659438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FB21-8BA2-4DAD-AEA5-069FAD72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E64-0A1A-4519-B7D1-B095D6BB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60EB-02D4-43A8-B9DE-3D38A31B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1AD5-B515-44D5-B30C-6383D54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BE87-A54D-46EB-A243-80A68EBF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D93F-D6A9-4224-9AFE-AD0F3E06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87B7-EBB7-47EA-8515-5EAA7CF2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8CF-CF0A-459E-A6FA-6CE3927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5BC-ABA2-4131-B5EC-132C7D9B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A01-F90E-40E6-A1FF-FF691A00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EE1-BF5B-4E5A-B9BC-6874E18D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894-3C13-4055-ADAB-717570A8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33D-3CB6-481A-AEA4-F6C8E3EA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D13-20CC-4D59-9FBF-6ED4E14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D8EF-E1F8-4E73-B434-6C2B38A86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BEAE-2F8A-42A4-8F81-6DB63E9DE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shapes our identi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nielle Broadf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asha Z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ctors of our id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mily and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oups/Clu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eliefs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b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2763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ritage-the origins of our ances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re we’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Calgary, Re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286000" cy="137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16072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2765520" cy="2203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4920" y="440064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429000" y="4167360"/>
            <a:ext cx="2209680" cy="269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715000" y="2590920"/>
            <a:ext cx="2971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entury Gothic"/>
              </a:rPr>
              <a:t>Background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mily and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y provide us with an intricate support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lp form our beliefs and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roups/Clu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nce Spectrum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lgary Aquab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ic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5:04:46Z</dcterms:created>
  <dc:creator>Webber Academy Webber Academy</dc:creator>
  <dc:description/>
  <dc:language>en-US</dc:language>
  <cp:lastModifiedBy>Natasha Ava</cp:lastModifiedBy>
  <dcterms:modified xsi:type="dcterms:W3CDTF">2007-09-23T20:34:20Z</dcterms:modified>
  <cp:revision>3</cp:revision>
  <dc:subject/>
  <dc:title>What shapes our identities?</dc:title>
</cp:coreProperties>
</file>